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635-481E-417D-957D-72AF5FF9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1F4-F1F5-4527-88FC-23FAF1AD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1C6-7D8B-47F0-B209-E9FFF0AF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6AC-E53B-4436-B6E4-A837BDD6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37E0-C199-45FB-BFC2-7D2DCF61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83A2-EC38-45F0-9E2C-24E617B6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6EC9-8C00-47EE-A640-0E3929AD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71EB-AD7A-437C-B7C8-7872330F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5D73-1AEC-4BC5-9118-DFB4BFF0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F8F5-BC6C-43C5-A5BF-C5214DDF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01AC-4DDB-46CC-8B80-776B68D0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7A6-1B9F-4FF1-B650-AF9B347E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0A60-BB03-436B-831E-03D93B03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C53D-2282-4945-B383-295BB683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15C1-48C1-43A3-9E5A-1F347501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BD7B-0A59-4EBC-BFCF-C070C10F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4BEC-84AF-4E50-A30C-601B99EB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E0A-0E5D-4EDC-9B23-EF935D52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EB9-4FB7-405C-864F-CB549DBE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EA9-0FA4-4CC0-B6AE-35131978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4A3-25D7-4B4C-913B-8815C4C9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C38-2C99-471C-845A-C6759CD6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452-0851-4878-8D5B-C2334599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39C-533E-4B00-BD07-A1C81BC6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8B80-9C43-4406-8EBA-1FF5EB7455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EC3C-CD8C-4862-83D6-EAA452A943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Pituitary Glan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ster G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00400" y="4343400"/>
            <a:ext cx="2752560" cy="236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 rot="573000">
            <a:off x="6477120" y="228240"/>
            <a:ext cx="2409840" cy="2314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 rot="20897400">
            <a:off x="5943600" y="3276360"/>
            <a:ext cx="289548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Where is the Pituitary Gland??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77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ituitary gland is a pea sized Gland located on the brain near the optic nerve and is attached to the hypothalamu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44956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Hormon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drenocorticotropin (ACTH)-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ntrols the adrenal gland. It also helps control blood pressure and glucose level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hyroid-stimulating hormone (TSH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Stimulates thyroid gland to regulate metabolism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uteinizing hormone (LH)-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ntrols sperm production in men and estrogen in wom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Follicle-stimulating hormone (FSH)-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stimulates ovaries and test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Growth Hormone-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ntrols growth in children and muscle, and bone mass in adults. This also controls fat distributio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ontrol – FEEDBACK!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823760"/>
            <a:ext cx="45198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ituitary gland Helps and tells the other glands to start producing there hormones. When they start producing their hormones the pituitary stops producing the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external image 28208-0550x0475.jpg"/>
          <p:cNvPicPr/>
          <p:nvPr/>
        </p:nvPicPr>
        <p:blipFill>
          <a:blip r:embed="rId1"/>
          <a:stretch/>
        </p:blipFill>
        <p:spPr>
          <a:xfrm>
            <a:off x="5460840" y="1219320"/>
            <a:ext cx="3683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Target Cells with Recept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581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renal Gla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s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ar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yroi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external image hypothalamic-pituitary-thyroid-axiskq.jpg"/>
          <p:cNvPicPr/>
          <p:nvPr/>
        </p:nvPicPr>
        <p:blipFill>
          <a:blip r:embed="rId1"/>
          <a:stretch/>
        </p:blipFill>
        <p:spPr>
          <a:xfrm>
            <a:off x="4114800" y="1523880"/>
            <a:ext cx="46483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Why is it There??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760" y="182880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ituitary gland is one of the most important glands in the body because it helps control most of the other endocrine glan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1148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4:12:22Z</dcterms:created>
  <dc:creator>701311</dc:creator>
  <dc:description/>
  <dc:language>en-US</dc:language>
  <cp:lastModifiedBy>DThomas</cp:lastModifiedBy>
  <dcterms:modified xsi:type="dcterms:W3CDTF">2011-02-16T18:39:02Z</dcterms:modified>
  <cp:revision>5</cp:revision>
  <dc:subject/>
  <dc:title>Pituitary Gland</dc:title>
</cp:coreProperties>
</file>